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14D9-E4A3-4DCB-BB57-3B63F32B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DA8A-BC19-4A82-92E0-FA5ADE3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F5EB-3999-4483-B427-7F648BF1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8B3D-660E-43A4-85AF-97063953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9D6-3593-4194-A43A-88FC10FA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756-B1E8-4EDF-9B36-2F939022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09D1-4FE4-465C-A11F-6AF25C3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6B91-FDD3-41FA-A589-C63244A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296-811E-4C64-8DD7-F217BA49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586-47B0-4EC1-A562-80128C9F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152-C026-4A73-8B21-D22523B2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F15E-960F-44D3-BE61-F2238B77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ECE8-4F75-47BA-A4A8-3CA0018A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A10-FAF3-4632-B5DA-9836191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C6A-2CA9-4B4B-ABDA-EF04799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C791-AB7A-4EA3-B9CB-FB6BE48E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F128-607D-4A72-84A0-C2C61528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0EC3-788B-47ED-BE92-296FE5D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22E2-869C-4213-8F2A-470FB2ED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2214-5986-436D-AD34-CC7EF60F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5427-E482-4018-BBA5-134535A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3F58-A645-4794-B0CE-E737287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6AD8-47C5-4E0B-A282-537B986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F7B8-6E75-40B9-8DED-FCFFF32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378-A7D8-487B-9D89-0388709A7A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871-4692-4FE1-BD83-AE869F2139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ри птичницы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де живут куры с цыплят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Кто ухаживает за кур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Как питомцы реагируют на зов птични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Какую картину автор нашёл забав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Кто охраняет птичий дв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Почему  сторож - щенок засып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 Догадались ли вы, кто эта другая птичн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 Как вы думаете, повезёт ли лисице на сей раз или снова уйдёт со двора несолоно хлебавши? Придумайте продолже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06:44Z</dcterms:created>
  <dc:creator>1</dc:creator>
  <dc:description/>
  <dc:language>en-US</dc:language>
  <cp:lastModifiedBy>1</cp:lastModifiedBy>
  <dcterms:modified xsi:type="dcterms:W3CDTF">2011-01-25T18:34:06Z</dcterms:modified>
  <cp:revision>7</cp:revision>
  <dc:subject/>
  <dc:title>Три птичницы.</dc:title>
</cp:coreProperties>
</file>